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7024-0151-4389-85AC-C412A717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F0FC-7119-49B4-9699-2C08FD7D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97C1-28E4-4323-B258-A63B91E4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9D54-1C12-43A5-9877-333DA119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DB2F-3A5D-41BA-8883-EB8571D9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E682-1B76-404E-A898-49AF1364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3C34-74E2-434C-A065-68FCB56F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33A6-D127-41D2-84B2-AA56BFDE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5855-2153-4B64-8C79-F203C94E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D939-BD3A-450B-ABDD-A23E13E8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5377-A00E-4764-AF4A-C1CD484A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1F5F-3790-4D11-A60D-9EB71404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B398-0A96-4AA6-A266-1CE014E79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otects you from cruel and unusual punish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ight to vote in federal elections cannot be denied for failure to pay poll ta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ndment 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enumerated rights – individual rights given but not expressed in the Constit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ndment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ght to vote for African-Americ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ndment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omen’s suffrage – no person, male or female, can be denied the right to vo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ndment 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.S. citizens 18 years and older given the right to v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ohibition law lif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nators are elected by the voters in each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ights of protection from unreasonable search and seizure – Right to priv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hibition of alcoh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ndment 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cludes voters of the District of Colombia in the presidential elector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ndment 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2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ongressional raises cannot take effect until after the following 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ght to trial by jury in civil c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ndment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ice president will take over office if the President resigns/d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ndment 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Rights to due process:  right to not self-incriminate, double jeopardy, trial only after being indicted by a grand ju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ongress has the power to collect taxes on in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ight to a fair and speedy 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s not given or prohibited to the government are reserved for the st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ndment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qual protection under the law – people born in the U.S. or naturalized are citize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ndment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 lawsuit can be brought against the U.S. by citizens of another state or countr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ndment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reedom of religion, speech, press, assembly and pet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ts end dates for terms of office for President and Cong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ight to bear a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esident may serve two consecutive terms in off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ndment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arate ballot for the election of President and Vice Presi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bids slavery and forced lab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ndment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 soldier in a time of peace shall be quartered in any ho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ndment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8:36:19Z</dcterms:created>
  <dc:creator>haselhuhg</dc:creator>
  <dc:description/>
  <dc:language>en-US</dc:language>
  <cp:lastModifiedBy>lullmannj</cp:lastModifiedBy>
  <dcterms:modified xsi:type="dcterms:W3CDTF">2012-10-12T12:56:43Z</dcterms:modified>
  <cp:revision>2</cp:revision>
  <dc:subject/>
  <dc:title>Amendment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